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png" ContentType="image/png"/>
  <Override PartName="/ppt/media/image16.png" ContentType="image/png"/>
  <Override PartName="/ppt/media/image23.jpeg" ContentType="image/jpeg"/>
  <Override PartName="/ppt/media/image15.jpeg" ContentType="image/jpeg"/>
  <Override PartName="/ppt/media/image25.wmf" ContentType="image/x-wmf"/>
  <Override PartName="/ppt/media/image8.jpeg" ContentType="image/jpeg"/>
  <Override PartName="/ppt/media/image37.gif" ContentType="image/gif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33.gif" ContentType="image/gif"/>
  <Override PartName="/ppt/media/image34.gif" ContentType="image/gif"/>
  <Override PartName="/ppt/media/image38.wmf" ContentType="image/x-wmf"/>
  <Override PartName="/ppt/media/image40.wmf" ContentType="image/x-wmf"/>
  <Override PartName="/ppt/media/image28.png" ContentType="image/png"/>
  <Override PartName="/ppt/media/image7.jpeg" ContentType="image/jpeg"/>
  <Override PartName="/ppt/media/image39.wmf" ContentType="image/x-wmf"/>
  <Override PartName="/ppt/media/image9.wmf" ContentType="image/x-wmf"/>
  <Override PartName="/ppt/media/image6.jpeg" ContentType="image/jpeg"/>
  <Override PartName="/ppt/media/image13.wmf" ContentType="image/x-wmf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01C-1CE9-4D01-8D04-34F0DADB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53A-7C6D-463C-AA62-3E833E6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AA2-94A0-4F04-816F-8274771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5D3-626D-4958-A320-C64E7BFB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4BBA-FF98-4258-BC27-9E95F523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E001-71AD-40D2-A2E5-1C3486C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9F74-3CC2-43C5-A04D-17944FB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2C1-7838-409C-AEA3-6E8F5CA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3AC-0132-4256-A2EF-673BE10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1864-F38F-426D-9FA1-E0C8EAFA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8F2E-47FE-4218-B769-079F25D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888-66A9-4CD9-84B2-3D620939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301-C12A-4B6A-BB20-D45B7BBC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E01-74B9-461C-8003-54003A8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0390-DB44-4263-A5B7-029A16D7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775F-00B9-4FF4-9F70-A6393389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7B6D-7DE9-4C79-B7FC-233B02F1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09D-3073-466F-8FF9-414BEA68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1B3-1D22-44D5-973C-BAAA56D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9FB-FA1E-440C-81F3-9609970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677-8FB8-4BCE-A643-26D547A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730-0CEF-4001-93F3-410427BA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742-51B6-42DC-AA43-DC07752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C51-85CA-47AB-9830-5DAD56A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01A-8664-4323-A9AF-8231D8B8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C3FD-F8C0-42A6-8970-D3B009665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9.wmf"/><Relationship Id="rId3" Type="http://schemas.openxmlformats.org/officeDocument/2006/relationships/image" Target="../media/image3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834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64000" y="2133720"/>
            <a:ext cx="3270240" cy="3970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50920" y="227664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63528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1433520" cy="18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factors to oxygen up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system – ability to take i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system – ability to transport and deliver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system – Utilisation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exercise performed, genetic inheritance, lifestyle, age and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780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tions to V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Ma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432108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2233440" cy="380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093080" y="2349360"/>
            <a:ext cx="1871640" cy="3743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 - Spo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Rate and Oxygen consu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exercis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heart rate increases to meet the oxygen demands for the working mus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HR and oxygen consumption is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 5.3 p.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56240" y="2068560"/>
            <a:ext cx="4259160" cy="44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rt Rate and Intens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370720" cy="475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11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Oxygen Defic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801440"/>
            <a:ext cx="374796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gen defi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when the demand for oxygen exceeds the supply of oxygen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therefore needs to obtain ATP through anaerobic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/high intensity – Lactic acid is produced but is removed once oxygen demands ar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2920" y="1801440"/>
            <a:ext cx="41356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hindered due to the presence of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oxygen demands are met, the body reaches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 glycolysis assists in the removal of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00720" y="4724280"/>
            <a:ext cx="3809880" cy="1409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Consum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064360" cy="444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000" y="1844280"/>
            <a:ext cx="842796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12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151920"/>
            <a:ext cx="808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Body Systems Revi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8280" y="1868040"/>
            <a:ext cx="4300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responses occur to supply extra oxygen and nutrients to support ATP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responses incl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reati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epinephrine (Regulates BP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umption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01760" y="1868400"/>
            <a:ext cx="406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glycogen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muscl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cardiac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tribution of blood to working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are dependent on intensity, duration, fitness levels and type of activit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cute responses to exercise. Increase 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xyge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port of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traction of oxygen from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mption of oxygen by working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inues until maximum uptake is met (V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ttp://www.bbc.co.uk/science/humanbody/b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4270680" cy="2843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2441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1773000"/>
            <a:ext cx="8572320" cy="4824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122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Oxygen Deb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Deb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868400"/>
            <a:ext cx="44578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xercise our demand for ATP decreases but we still need to ‘repay’ the oxygen needed during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we puff after intense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r the intensity and duration of activities, the longer the oxygen de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3934080" cy="4464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7956360" y="2205000"/>
            <a:ext cx="502920" cy="792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172360" y="4437000"/>
            <a:ext cx="503280" cy="792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O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other term used for oxygen recovery is EPOC – excess post-exercise oxygen consum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actacid Debt – Oxygen used to restore ATP and PC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ctacid Debt -  Oxygen used to remove lactic acid from cells/bl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tional oxygen is used to recover the energy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33440" cy="1368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250920" y="3384720"/>
          <a:ext cx="8642160" cy="3214440"/>
        </p:xfrm>
        <a:graphic>
          <a:graphicData uri="http://schemas.openxmlformats.org/drawingml/2006/table">
            <a:tbl>
              <a:tblPr/>
              <a:tblGrid>
                <a:gridCol w="1008000"/>
                <a:gridCol w="3314520"/>
                <a:gridCol w="431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Replenish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 Replenish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 minutes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ho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P re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core temperature to pre-exerci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re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verted to CO2 &amp; H2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ption of H+ ions (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ffering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e oxygen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y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verted to glycogen, protein &amp;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ing heart rate, ventilation &amp; other body systems to pre-exerci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s on page 124 and 12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5.1 and 5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12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4000" y="1700280"/>
            <a:ext cx="8572320" cy="48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4 page 128-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Respirat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89584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1916280"/>
            <a:ext cx="278136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50920" y="1916280"/>
            <a:ext cx="2749320" cy="44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29-39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47-53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CAA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53440" cy="1898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51664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86800" cy="4176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522936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7572240" y="1989000"/>
            <a:ext cx="130824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34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body and mind tests from the BBC UK: http://www.bbc.co.uk/science/human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uman anatomy: http://www.innerbody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the body and anatomy – Virtual Body: http://www.ehc.com/vbody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– Oxygen Deficit: A Measure of Anaerobic Capacity: http://www.faccioni.com/Reviews/oxygendeficit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on the transport of oxygen in the blood, from the Australasian Society of Cardio-Vascular Perfusionists: http://www.perfusion.com.au/CCP/Physiology/Oxygen and carbon dioxide transport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Institute of Sports Medicine and Athletic Trauma – A primer on maximum oxygen consumption: http://www.nismat.org/physcor/max_o2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http://www.ausport.gov.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orts Coach UK: http://www.brianmac.demon.co.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Circulat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971800" cy="4622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12000" y="1773360"/>
            <a:ext cx="2895480" cy="472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429000" y="1773360"/>
            <a:ext cx="24382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95600" y="2189160"/>
            <a:ext cx="704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505320" y="4267080"/>
            <a:ext cx="2233440" cy="17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Mus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89400" y="2052720"/>
            <a:ext cx="702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383160" y="1676520"/>
            <a:ext cx="23083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 Structure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9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arcomere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810240" cy="328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90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85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11280" y="5157720"/>
            <a:ext cx="8001000" cy="146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43280" y="1700280"/>
            <a:ext cx="3924360" cy="33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Oxygen Uptak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Inspiration of atmospheric oxygen via pulmonary venti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Oxygen is diffused from the lungs into the blood and is pumped to the body via the circulator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Uptak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Skeletal muscle diffuses the oxygen into its cells with assistance from myogl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sump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Occurs in the muscle cell by the mitochond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of Oxygen to the Working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piratory system is responsible for the extraction of oxygen from the atmosphere. This process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ffu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Exchange of gases based on concentration levels (High to low). Occurs at a cellular level (In the lungs and in the muscle c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Heart rate x stroke volume) - The heart pumps out oxygenated blood to the vascular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gen combines with haemoglobi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yoglob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n the muscle attracts the oxy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blood and draws it in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te produces of aerobic metabolism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d from the muscle cell via diffu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fig 5.2 p.1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48360" y="3933720"/>
            <a:ext cx="1814760" cy="1994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DE&amp;T User</cp:lastModifiedBy>
  <dcterms:modified xsi:type="dcterms:W3CDTF">2007-12-10T03:51:44Z</dcterms:modified>
  <cp:revision>180</cp:revision>
  <dc:subject/>
  <dc:title>Unit 3</dc:title>
</cp:coreProperties>
</file>